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28.wmf" ContentType="image/x-wm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1745-F853-4F10-AC24-E4547522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345F-68CE-4050-B442-F6AFDBDB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833E-DE63-4671-9333-15F43FF6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7925-6D87-4F14-AB9D-00DBD56D3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38C8-8732-4AE4-9A84-B7FE5CA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30CF8-4E12-42EE-AE99-FC3149E359F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8FD70-F2F1-4008-B4EE-A4CD08CFA4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B4A34-D0A1-4D31-BFA6-6A2FE0A0AD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20A3A-BB53-4108-91C8-295C959CFD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F4111-FD88-4BF0-AA82-A45CB2D55A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70026-6B23-4E8D-B99A-0BBABEE43F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E8DBE-E2FD-490C-82A0-24AF9CC2F6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D96FD-8A03-4779-B052-9D19EA54C9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4C27E-B033-40CA-8E89-40543AEE13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E83E-03AA-49EE-80AF-B753AC223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725E-AF2E-444A-A6DE-6A27F86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ED7A-6FAA-4558-A079-4C30DB9BFC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30EA-B303-4B8D-93CF-CDD61A5250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36A2-A1D8-4FB3-8CDF-0AE2F7E027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17DD2-4AB1-4F27-9093-8B4FEA45BC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7807-3C94-469F-A10F-2D6AEAD5EAA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C0D6-8DDD-4D40-81FE-38F22B7EFB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E3B2-CFB8-42AB-870C-3E724997B5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B383-2429-40C6-8C4A-8433E81474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2D61-BCFA-4547-A1C1-36B4298458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1257-7EA0-45AD-AEFD-9D011567E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170F-716F-4862-99D8-13BE9F755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709E-BD0E-4AD5-A364-F9E1CF499C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17A11-6B92-4420-A221-F5CAEB9A30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4F792-6C31-4AF7-AAFA-8B05C7BF69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B2A153-B128-4896-9939-9196055B9D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13C9C-C61A-458F-8496-ED6132DB59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CD541-7E8C-46C8-A408-3E564C2F7A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399A5C-FB30-4070-B3FF-C53CBC585D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1A014-ABD8-44A1-B03D-2058158C18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9DF5B-2F3E-4D08-922A-BCBE76027D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0254C-CB02-4D33-88BA-EB78BBF30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A20-3322-4491-9171-9E0EDA6B0F1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D440C-28F5-46E2-B0AC-1D05C08D7E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DE012-7242-4749-B645-B7C1D3DEEC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B7362-211E-467B-B570-29ED789D23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C7140-4530-4595-9FC0-D43E3B40DE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50DAA-16F3-47B9-864A-8735304A25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8454A-C4AB-4004-9795-0B19E83C25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33025-69EC-40D9-9DE2-5F3F340815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BED37-31C1-4DCD-AF34-9D0E475602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46EE5-1887-4448-B6A4-D0C79B073D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E2458-CF40-4F38-9A49-74BC73919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AFD-CE2A-4886-B09A-2C6A4F8A83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B1EB4-844E-4F16-90A3-1CBF357B6E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D66D8-1749-4597-AA42-CC39C0657E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F4ABE-F1EF-4847-9658-C1F4F287B4A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5EF8D-5329-4C2B-8354-F9A89D0CADB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C3D4E-DE02-47BF-8012-69D86A51E1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0E29-B6E8-4CBA-B470-63F947799D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5F01-3576-4178-B25D-87430A227B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5009-2A95-4E66-8AEF-5CA1B933DE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0775-77EB-49FA-BE44-07F5B9A119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46A4-E13B-4B89-A261-DC056041F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254-6AC7-40B1-8488-03D7480087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1765-E895-4814-B857-449A6336BFA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E6FD-C923-4347-81D5-64B269ABBE0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737F-94CC-4C3E-AEB1-4E0BF53C78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5E9D1-FE06-49AB-9F5C-3311089AA1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DE6E-376E-447C-90C1-05F9B3EF60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34CA-16BF-4CAF-A3C7-8230169A2C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1A09-FACD-4598-AF1E-80FB4A8C9A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1A427B-215E-49A6-B0BB-3BB2DF86F1A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06581-A46E-4870-976C-0443DA752B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13057-0DEC-4579-AEC2-829155D201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AA1-B84E-49BB-90EC-7427DE88A91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657BA-3F6C-4805-BF12-EB89C317C7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CAC24-9B83-4268-9D6F-566430ACF8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5C851-4C52-4507-9717-DA1F0849584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744D8-4555-4EDE-8DDA-9ED5D9321DC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3F36B-C90D-4FD1-81A1-B243C8FC0C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4926D-4F72-4C59-ADAB-2BA53D93B47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953A4-4B27-4D99-B578-C265148126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3ABE2-24E7-4A27-9E68-3A5373A648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1B115-E25A-4BCA-B49D-89BD6BAED47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A984E-EFD3-4265-B264-68D5FAB61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1CA-C726-42E5-B83B-4503427682D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11C71-FA8D-41FD-915C-802D4ECC0E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FD79C-D65A-452E-B157-B4EDA058C12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B9066-1BDB-46BD-BF16-CD68B541CAD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E2847-BF47-499B-8817-33EA699B04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9800B-0F02-486B-9C8E-DA852FB6B22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D8CC8-D572-47FA-B10B-E17F79420B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9AF3B-2AC2-4B68-A3B2-571CBB77E6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53BF6-8F55-497A-B701-0C021784470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25A34-D175-4299-892F-19DC31749F4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5D4EB-543E-4BD8-A8D4-9DF6D21B8E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8A7-BE43-40A9-B39D-214B3CA0EAF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72751-0A8D-4747-BC50-3BE347030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F72-634B-47DF-8A43-C66CD9385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0389-0134-48EE-B28C-BEE2B2A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F86-83D8-4370-8E47-A585CDC440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A13-22BA-4944-9D51-F9BBB54093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54B-6D8D-44DF-9798-FE2848B23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B8-B728-4F5B-8EC9-2E7FCF73F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18B-D9AE-4DA3-821D-FA84D2BE0F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D4179-DFA3-46D9-9359-33B616001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DE6C5-D2D7-490B-AE74-967A3D6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16683-51C1-40BF-993D-BE8A5A1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01C0-7612-4D66-BEF0-7E125F0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CB36-37DE-4975-B15F-B75A5140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A435-0BDB-49CE-8513-C0903236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6B4D-DC64-4615-87E3-542A795B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C7F9A-0C4C-4359-9745-EC4038AE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2C60-5B00-4106-9487-354C646A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6255-A21E-4224-A6A5-B47B417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5998-63F2-41B6-92B4-FC8DCFA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500B0-40C6-4E1D-95B2-357F5A8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32AA8-D7B6-43B5-B6EB-83A6A8D14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7C6-C508-498F-9291-CC5A28ED7D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415-D43A-4BA2-BFA0-864C10A0EB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392-B51C-4807-A7BD-606244A6B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1B49-C31C-4004-98A3-19FB6E2B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ED62-0E89-458D-A92E-3E8F59E641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F693-A0CF-4B6D-959E-111B241457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AD3-5D32-49FF-9A92-0697C55A12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3EF3-E421-4FEC-A26A-1DE05E3F25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46AF-9230-4199-BE33-8B05F8FD1A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7FC-D8A2-4C22-8266-2B87E9B479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2872-880E-4450-876C-EBB43F70B5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4E16-A776-4196-B4DE-8B15D3015D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AD57-F6EE-4156-82D8-9DA17AB473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84A51-1225-4F0D-B0C1-94D1CB190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61A0-C3A6-42B4-80FA-FEC53A03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32741-6880-49F8-8A1A-F46166DD03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C0740-6151-43AE-8A18-86F2603004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FDFD65-C371-48C8-9E53-9B6EE7FB4F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53A49-0515-4251-89F9-8FF744C16E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F342E-B931-43E3-BB0F-22AA0A899D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F7699-399D-43CA-B131-2574920207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0B53D-5756-4A5F-AFB3-344C884F45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CF6E4-FEC3-43C9-A91C-B2A7C413D0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4727B-D831-4D45-ABC8-3561E30B81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25E3A1-45D1-43A7-A99E-A64C3DFFB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AC76-BDA1-427F-95BE-AB4A0260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94E00-828F-4060-AE77-43CA786901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4A480-4D24-43B9-8617-C8B262F37E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30CD1-2D12-423B-A39D-F44A5B4884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BCED1-9897-4976-AE0A-C9868F6133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925BE-5C0A-4837-B4E7-FA9D66D927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7B334-6742-4050-903D-D1BC56737B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C1CC1-8E21-4DA6-81D8-18E7296438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5CE67-3B0F-47EE-81DB-09B49FE0FC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41EE7-FFAD-4100-B84B-125D795920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2F6E7-0704-42AE-9F69-D1DEA1E7F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74F9-2F9B-4248-A9CE-AD985C1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F7454-E135-44E0-A460-45B1F7F0FA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71633-5069-4436-AA38-D878C4626B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9D775-D157-4F8F-BAAD-35CB9BFAC0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E467-1CF5-4582-BC3A-E34807720A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8CBD-E17E-48A9-BB89-72C2B227B3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3F43-ECBA-43C3-A07F-79EE168D80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48AA-1DC2-47FF-99EB-D23AFDE06C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6BBD-928C-47A8-B4AF-813D2EFC27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489E-958E-43A6-A6CB-2D5A273BD2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BACE-C2E5-4741-9C88-1DFF29186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BA8A-FE56-4234-A7A3-63D18DF4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D4A9-5D8F-4310-864C-724C9B9CD3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7D12-E218-42A7-B54A-57C9BE1148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EF26-2FE9-430B-8F09-84E0B6DB44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21E2-2B11-4055-A211-79F4E619B1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CAA0-C154-4227-85D9-274350EC1E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91D0C-1D82-41C8-A11B-FFC1A0E939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85AB6-A2BE-4CA6-97AC-92D3EBAF4F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C03D6-4918-4872-92DD-901CE1A1FF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FAFE3-E732-4C0F-9A1F-594D5337DB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6B235-A01D-4589-9D43-8EDA62717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6BAE-DA65-4DFA-A9F6-DC010DAF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06080" y="58320"/>
            <a:ext cx="7770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FF8A1-28C6-4124-AB90-061F87FEFE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C86C7-BD2D-4B0B-87D6-1165C69F53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0E22E-A1E0-4BEF-9489-B1EE88FD7B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03864-C096-4DF9-AB33-E8B3892502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38C77-2E14-4FBA-82EA-889DCD0349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074DF-D105-436E-A345-14FC0FBA8A9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3E5AF-0004-42C2-9ADD-3F733BD6FDE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D9F1C-9F2C-46B4-A252-2A25B0B2DB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1F9C0-96F0-49E5-84B6-B84C0AE4A2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6A79E-873F-44C1-AAA6-1BF2629A2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-51120"/>
            <a:ext cx="8040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0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6002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9320" y="6273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64960" y="6273720"/>
            <a:ext cx="48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97680" y="6273360"/>
            <a:ext cx="989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0B47C-CC84-4073-AA16-2BA7560CC8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2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75370-E92D-4894-A3B4-2682F284567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3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42276-73AE-424E-8094-D7CF56C177B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14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F1827-3CC9-4B25-B449-B7A33AF34DB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15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E2FB4-8377-4A23-94C3-F7B7668DF75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6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D3DBC-56F4-4FA9-A2A4-3FBE41CC8D0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7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85EA9-C6C4-4D6F-84B4-65DAA4AB27B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D96C2-F5D2-468A-99AB-7AA935DAE2C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-51120"/>
            <a:ext cx="8040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0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6002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20574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5629320" y="6275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 Unicode MS"/>
              </a:rPr>
              <a:t>08/22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7897680" y="6137280"/>
            <a:ext cx="9892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8A4FA-E60A-43BA-B50C-1FB61EB566B8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 Unicode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D7F87-1CE2-410E-9A56-C86687BF226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7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77971-CB7F-4834-8E07-5E747F5BAE3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8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B12CB-C09D-4CBE-BBD4-98AFEF504F5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9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4EC5F-4C38-4424-84CD-DF932CFB855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0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9AF2A-829F-4F3D-83E2-A7A65B076DB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080" y="5832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1"/>
          </p:nvPr>
        </p:nvSpPr>
        <p:spPr>
          <a:xfrm>
            <a:off x="6730560" y="622908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2BC92-F5A5-44FF-B241-3659B69054D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comic"/>
                <a:ea typeface="MingLiU-ExtB"/>
              </a:rPr>
              <a:t>Direct Instruction: Dichotomous Keys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113200" cy="35719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At choice 5, you make another dichotomous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414360" y="2514600"/>
            <a:ext cx="8267760" cy="5904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4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 rot="1680000">
            <a:off x="5587920" y="4547160"/>
            <a:ext cx="216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step 6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"/>
          <p:cNvSpPr/>
          <p:nvPr/>
        </p:nvSpPr>
        <p:spPr>
          <a:xfrm>
            <a:off x="2819520" y="32004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664d"/>
                </a:solidFill>
                <a:latin typeface="Arial"/>
              </a:rPr>
              <a:t>5a is 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1" descr=""/>
          <p:cNvPicPr/>
          <p:nvPr/>
        </p:nvPicPr>
        <p:blipFill>
          <a:blip r:embed="rId1"/>
          <a:stretch/>
        </p:blipFill>
        <p:spPr>
          <a:xfrm>
            <a:off x="5181480" y="3110040"/>
            <a:ext cx="1865520" cy="35240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"/>
          <p:cNvSpPr/>
          <p:nvPr/>
        </p:nvSpPr>
        <p:spPr>
          <a:xfrm>
            <a:off x="398520" y="120348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Keep going until you come to a st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that gives you the creature’s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2"/>
          <a:stretch/>
        </p:blipFill>
        <p:spPr>
          <a:xfrm>
            <a:off x="0" y="3059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6689520" cy="3812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 rot="20340000">
            <a:off x="1754640" y="42613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agneto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Box 2"/>
          <p:cNvSpPr/>
          <p:nvPr/>
        </p:nvSpPr>
        <p:spPr>
          <a:xfrm>
            <a:off x="685800" y="229716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  a.    The creature has one antennae                            Go to Step 7.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" descr=""/>
          <p:cNvPicPr/>
          <p:nvPr/>
        </p:nvPicPr>
        <p:blipFill>
          <a:blip r:embed="rId1"/>
          <a:stretch/>
        </p:blipFill>
        <p:spPr>
          <a:xfrm>
            <a:off x="4273560" y="2514600"/>
            <a:ext cx="1898640" cy="32576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Choose a new creature and </a:t>
            </a:r>
            <a:r>
              <a:rPr b="1" lang="en-US" sz="2800" spc="-1" strike="noStrike">
                <a:solidFill>
                  <a:srgbClr val="0000ff"/>
                </a:solidFill>
                <a:latin typeface="News Gothic MT"/>
              </a:rPr>
              <a:t>start at step 1a and 1b </a:t>
            </a: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again. Continue until you find the creature’s na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-45720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"/>
          <p:cNvPicPr/>
          <p:nvPr/>
        </p:nvPicPr>
        <p:blipFill>
          <a:blip r:embed="rId3"/>
          <a:stretch/>
        </p:blipFill>
        <p:spPr>
          <a:xfrm>
            <a:off x="228600" y="2448000"/>
            <a:ext cx="990720" cy="16668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5"/>
          <p:cNvSpPr/>
          <p:nvPr/>
        </p:nvSpPr>
        <p:spPr>
          <a:xfrm>
            <a:off x="528480" y="365760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2705040" y="56116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664d"/>
                </a:solidFill>
                <a:latin typeface="Arial"/>
              </a:rPr>
              <a:t>Where do you start Ag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73880" cy="18288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n, find the names of all the creatur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549360" y="108000"/>
            <a:ext cx="80420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549360" y="1752480"/>
            <a:ext cx="80420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1. a. wings covered by an exoskeleton – go to step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wings freely observed – Go to step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2. a. body has a round shape ……….ladybug, a red beetle with black  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body has an elongated shape ……….grasshopper, a green insect that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3. a. wings point out from the side of the body ……….dragonfly,  an insect that is 10- 15 cm long and lives in mar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595959"/>
                </a:solidFill>
                <a:latin typeface="News Gothic MT"/>
              </a:rPr>
              <a:t>b. wings point to the posterior of the body ……….housefly, a flying insect with red eyes and an annoying buz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3124080" y="274680"/>
            <a:ext cx="1803600" cy="1352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7275600" y="274680"/>
            <a:ext cx="1766880" cy="1325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3"/>
          <a:stretch/>
        </p:blipFill>
        <p:spPr>
          <a:xfrm>
            <a:off x="5181480" y="2746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4"/>
          <a:stretch/>
        </p:blipFill>
        <p:spPr>
          <a:xfrm>
            <a:off x="895320" y="274680"/>
            <a:ext cx="166356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"/>
          <p:cNvSpPr/>
          <p:nvPr/>
        </p:nvSpPr>
        <p:spPr>
          <a:xfrm>
            <a:off x="519120" y="-304920"/>
            <a:ext cx="8624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if I needed to make a key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92160" y="1219320"/>
            <a:ext cx="8915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Use constant characteristic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ather than variable ones. (Flowers change with the seas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Use measurement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ther than terms like "large" and "small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buClr>
                <a:srgbClr val="ff0000"/>
              </a:buClr>
              <a:buFont typeface="News Gothic MT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Make the choice a positive on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something "is" instead of "is not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- Ex: snake ears are internal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buClr>
                <a:srgbClr val="595959"/>
              </a:buClr>
              <a:buFont typeface="News Gothic MT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possible,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start both choices of a pair with the same word or i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the body is “round” vs the body is “squa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1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Finish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he dichotomous key </a:t>
            </a:r>
            <a:r>
              <a:rPr b="0" lang="en-US" sz="2400" spc="-1" strike="noStrike">
                <a:solidFill>
                  <a:srgbClr val="ff0000"/>
                </a:solidFill>
                <a:latin typeface="News Gothic MT"/>
              </a:rPr>
              <a:t>with a full description of the 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77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PMingLiU"/>
              </a:rPr>
              <a:t>Dichotomous k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533520" y="2133720"/>
            <a:ext cx="7999200" cy="6397560"/>
            <a:chOff x="533520" y="2133720"/>
            <a:chExt cx="7999200" cy="6397560"/>
          </a:xfrm>
        </p:grpSpPr>
        <p:graphicFrame>
          <p:nvGraphicFramePr>
            <p:cNvPr id="708" name="Object 3"/>
            <p:cNvGraphicFramePr/>
            <p:nvPr/>
          </p:nvGraphicFramePr>
          <p:xfrm>
            <a:off x="533520" y="2133720"/>
            <a:ext cx="7999200" cy="639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133720"/>
                      <a:ext cx="7999200" cy="63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Text Box 4"/>
            <p:cNvSpPr/>
            <p:nvPr/>
          </p:nvSpPr>
          <p:spPr>
            <a:xfrm>
              <a:off x="533520" y="2133720"/>
              <a:ext cx="7999200" cy="63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5"/>
          <p:cNvSpPr/>
          <p:nvPr/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PMingLiU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PMingLiU"/>
              </a:rPr>
              <a:t> Example of a dichotomous ke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PMingLiU"/>
              </a:rPr>
              <a:t>Dichotomous k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533520" y="1219320"/>
            <a:ext cx="81788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PMingLiU"/>
              </a:rPr>
              <a:t>the dichotomous key can also be expressed in a diagram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Object 3"/>
          <p:cNvGraphicFramePr/>
          <p:nvPr/>
        </p:nvGraphicFramePr>
        <p:xfrm>
          <a:off x="990720" y="1981080"/>
          <a:ext cx="73152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7080" y="838080"/>
            <a:ext cx="89913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Famili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chotomous  Divi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0" y="1603440"/>
            <a:ext cx="54864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(organi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us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 (spec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100000"/>
              </a:lnSpc>
              <a:spcBef>
                <a:spcPts val="437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92436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o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99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all 8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Dichotomous Keys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Shorthand/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Mnemonics/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main Ideas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"/>
                <a:ea typeface="MingLiU-ExtB"/>
              </a:rPr>
              <a:t> on 10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fe is organized at all levels from cells to biosphe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B3. b All Organisms and systems are organized from simple parts into complex systems that must maintain homeostasis in order to surviv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728640" y="5335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How is life organiz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"/>
          <p:cNvSpPr/>
          <p:nvPr/>
        </p:nvSpPr>
        <p:spPr>
          <a:xfrm>
            <a:off x="376200" y="9698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But what if we find things we don't know and we want to know what they are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600"/>
            </a:br>
            <a:br>
              <a:rPr sz="4600"/>
            </a:b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322280" y="3298680"/>
            <a:ext cx="6499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6172200" y="2827440"/>
            <a:ext cx="2747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"/>
          <p:cNvGrpSpPr/>
          <p:nvPr/>
        </p:nvGrpSpPr>
        <p:grpSpPr>
          <a:xfrm>
            <a:off x="3505320" y="2147760"/>
            <a:ext cx="2514600" cy="1943280"/>
            <a:chOff x="3505320" y="2147760"/>
            <a:chExt cx="2514600" cy="1943280"/>
          </a:xfrm>
        </p:grpSpPr>
        <p:pic>
          <p:nvPicPr>
            <p:cNvPr id="640" name="Picture 4" descr=""/>
            <p:cNvPicPr/>
            <p:nvPr/>
          </p:nvPicPr>
          <p:blipFill>
            <a:blip r:embed="rId2"/>
            <a:stretch/>
          </p:blipFill>
          <p:spPr>
            <a:xfrm>
              <a:off x="3505320" y="2147760"/>
              <a:ext cx="25146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5"/>
            <p:cNvSpPr/>
            <p:nvPr/>
          </p:nvSpPr>
          <p:spPr>
            <a:xfrm>
              <a:off x="3767040" y="28080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’s my name !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Box 2"/>
          <p:cNvSpPr/>
          <p:nvPr/>
        </p:nvSpPr>
        <p:spPr>
          <a:xfrm>
            <a:off x="228600" y="5029200"/>
            <a:ext cx="58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e use something’s characteristics in a similar way using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"/>
          <p:cNvSpPr/>
          <p:nvPr/>
        </p:nvSpPr>
        <p:spPr>
          <a:xfrm>
            <a:off x="304920" y="-185760"/>
            <a:ext cx="8839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chotomous Key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228600" y="1109520"/>
            <a:ext cx="891540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dichotomous key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s a tool that allows the user to determine the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dentity of items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n the natural world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based on the items character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"Dichotomous" me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   “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ＭＳ Ｐゴシック"/>
              </a:rPr>
              <a:t>divided into two parts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”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reek orig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ichotomous keys always give 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  <a:ea typeface="ＭＳ Ｐゴシック"/>
              </a:rPr>
              <a:t>two distinct choices in each step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, often they are oppo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lack/white; good/evil; pointed/rou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0" y="274680"/>
            <a:ext cx="93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News Gothic MT"/>
              </a:rPr>
              <a:t>How to use a dichotomous ke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819520" y="1119240"/>
            <a:ext cx="3124080" cy="3924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"/>
          <p:cNvPicPr/>
          <p:nvPr/>
        </p:nvPicPr>
        <p:blipFill>
          <a:blip r:embed="rId2"/>
          <a:stretch/>
        </p:blipFill>
        <p:spPr>
          <a:xfrm>
            <a:off x="2352600" y="4324320"/>
            <a:ext cx="3819600" cy="284796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4"/>
          <p:cNvGrpSpPr/>
          <p:nvPr/>
        </p:nvGrpSpPr>
        <p:grpSpPr>
          <a:xfrm>
            <a:off x="6172200" y="4987800"/>
            <a:ext cx="3124080" cy="1913040"/>
            <a:chOff x="6172200" y="4987800"/>
            <a:chExt cx="3124080" cy="1913040"/>
          </a:xfrm>
        </p:grpSpPr>
        <p:sp>
          <p:nvSpPr>
            <p:cNvPr id="650" name="Rectangle 3"/>
            <p:cNvSpPr/>
            <p:nvPr/>
          </p:nvSpPr>
          <p:spPr>
            <a:xfrm rot="10800000">
              <a:off x="6176520" y="4995720"/>
              <a:ext cx="174780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Picture 7" descr=""/>
            <p:cNvPicPr/>
            <p:nvPr/>
          </p:nvPicPr>
          <p:blipFill>
            <a:blip r:embed="rId3"/>
            <a:stretch/>
          </p:blipFill>
          <p:spPr>
            <a:xfrm>
              <a:off x="6858000" y="4987800"/>
              <a:ext cx="2438280" cy="18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Box 2"/>
            <p:cNvSpPr/>
            <p:nvPr/>
          </p:nvSpPr>
          <p:spPr>
            <a:xfrm>
              <a:off x="6172200" y="501912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A! HA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chotomous Ke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5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73880" cy="18288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Here are creatures we don’t kno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Lets choose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1100520" y="1828800"/>
            <a:ext cx="712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nly one creature at a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2"/>
          <p:cNvGrpSpPr/>
          <p:nvPr/>
        </p:nvGrpSpPr>
        <p:grpSpPr>
          <a:xfrm>
            <a:off x="3657600" y="2819520"/>
            <a:ext cx="1593720" cy="2695320"/>
            <a:chOff x="3657600" y="2819520"/>
            <a:chExt cx="1593720" cy="269532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tretch/>
          </p:blipFill>
          <p:spPr>
            <a:xfrm>
              <a:off x="3657600" y="2819520"/>
              <a:ext cx="159372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4"/>
            <p:cNvSpPr/>
            <p:nvPr/>
          </p:nvSpPr>
          <p:spPr>
            <a:xfrm>
              <a:off x="3657600" y="2819520"/>
              <a:ext cx="1593720" cy="26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5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436680" y="3929040"/>
            <a:ext cx="2930400" cy="197316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5763960" cy="865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Read steps 1a and 1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112840" cy="3571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5"/>
          <p:cNvSpPr/>
          <p:nvPr/>
        </p:nvSpPr>
        <p:spPr>
          <a:xfrm>
            <a:off x="2971800" y="4952880"/>
            <a:ext cx="501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Decide which statement is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0" y="-111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2"/>
          <p:cNvSpPr/>
          <p:nvPr/>
        </p:nvSpPr>
        <p:spPr>
          <a:xfrm>
            <a:off x="2819520" y="562464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664d"/>
                </a:solidFill>
                <a:latin typeface="Arial"/>
              </a:rPr>
              <a:t>1b is 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69160" cy="6858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2"/>
          <p:cNvSpPr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News Gothic MT"/>
              </a:rPr>
              <a:t>Then follow the directions after that st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 rot="20280000">
            <a:off x="3737160" y="4270320"/>
            <a:ext cx="38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to step 5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1067040" cy="5443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2112840" cy="357192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6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use a Dichotomous Ke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 -6 L 0.14167 0.00486">
                                      <p:cBhvr>
                                        <p:cTn id="68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485 L 0.14653 -0.00139 E">
                                      <p:cBhvr>
                                        <p:cTn id="72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28:34Z</dcterms:created>
  <dc:creator>The International School</dc:creator>
  <dc:description/>
  <dc:language>en-US</dc:language>
  <cp:lastModifiedBy>Jill Luckey</cp:lastModifiedBy>
  <dcterms:modified xsi:type="dcterms:W3CDTF">2017-10-23T17:11:09Z</dcterms:modified>
  <cp:revision>37</cp:revision>
  <dc:subject/>
  <dc:title>PowerPoint Presentation  -  Dichotomous Key</dc:title>
</cp:coreProperties>
</file>